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11D-BB21-46F2-A09C-5B660FFC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CDB-9401-438D-A4C8-DDD532E6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AED-71FA-4DEE-9CB3-285171FE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10B-A2B5-458E-8996-F2391F50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4E2-5A78-4B82-8181-FB258580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D49-4102-4017-BE44-CB0FCF55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447-9D53-4BCE-BAF7-47EBCA91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AA4-7798-4D3D-BF51-40CCE679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4CE-624C-4C1B-93BE-F3CE41B9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BBB-830C-474C-B588-6D10E021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671-7F51-493E-ACA9-BFE323CD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5F0-F11C-47A4-B58E-FA422A07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B396-5521-492E-8EA0-A6F552C546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vc324aHB2m8" TargetMode="Externa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pfV0Oerfr8" TargetMode="External"/><Relationship Id="rId2" Type="http://schemas.openxmlformats.org/officeDocument/2006/relationships/hyperlink" Target="http://www.youtube.com/user/mjmfoodie#p/u/67/38hvvAzgXZY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o countries tra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 21 IB International Econo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6" descr="french_wine"/>
          <p:cNvPicPr/>
          <p:nvPr/>
        </p:nvPicPr>
        <p:blipFill>
          <a:blip r:embed="rId1"/>
          <a:stretch/>
        </p:blipFill>
        <p:spPr>
          <a:xfrm>
            <a:off x="3851280" y="0"/>
            <a:ext cx="3486240" cy="3619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888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alibri"/>
              </a:rPr>
              <a:t>Comparative Ad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 terms of comparative advantage France has a comparative advantage in production of w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rance has to give up 4/3 kilos of cheese to produce a litre of w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oland would have to give up 3 kilos of cheese to produce a litre of w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4/3 is smaller than 3 so France has the comparative advant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oland has a comparative advantage in production of chee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1/3 is smaller than ¾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theory of comparative advantage tells us that France should specialise in wine and Poland should specialise in chee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rance will consume that wine that they wish and use the extra to trade for chee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067280" y="4292640"/>
          <a:ext cx="4895640" cy="1981080"/>
        </p:xfrm>
        <a:graphic>
          <a:graphicData uri="http://schemas.openxmlformats.org/drawingml/2006/table">
            <a:tbl>
              <a:tblPr/>
              <a:tblGrid>
                <a:gridCol w="936360"/>
                <a:gridCol w="720720"/>
                <a:gridCol w="1224000"/>
                <a:gridCol w="792360"/>
                <a:gridCol w="12222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res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kilo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38" descr="902-2T"/>
          <p:cNvPicPr/>
          <p:nvPr/>
        </p:nvPicPr>
        <p:blipFill>
          <a:blip r:embed="rId2"/>
          <a:stretch/>
        </p:blipFill>
        <p:spPr>
          <a:xfrm>
            <a:off x="6804000" y="0"/>
            <a:ext cx="21812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4032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mparative Ad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 can illustrate this using production possibility curv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diagram shows exactly the same as the tab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hen a country has an absolute advantage in producing both goods (France) and the scale of the axes is the sam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comparative advantage for the better producer is in the good where the distance between the production possibilities is the greatest </a:t>
            </a:r>
            <a:r>
              <a:rPr b="0" lang="en-GB" sz="1900" spc="-1" strike="noStrike">
                <a:solidFill>
                  <a:srgbClr val="333399"/>
                </a:solidFill>
                <a:latin typeface="Arial"/>
              </a:rPr>
              <a:t>(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comparative advantage for the less efficient producer is where the distance between the production possibilities is least </a:t>
            </a:r>
            <a:r>
              <a:rPr b="0" lang="en-GB" sz="1900" spc="-1" strike="noStrike">
                <a:solidFill>
                  <a:srgbClr val="333399"/>
                </a:solidFill>
                <a:latin typeface="Arial"/>
              </a:rPr>
              <a:t>(b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us France has the comparative advantage in Wine and Poland chee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slope of the line shows the opportunity costs which is always a constant opportunity co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067280" y="4292640"/>
          <a:ext cx="4895640" cy="1981080"/>
        </p:xfrm>
        <a:graphic>
          <a:graphicData uri="http://schemas.openxmlformats.org/drawingml/2006/table">
            <a:tbl>
              <a:tblPr/>
              <a:tblGrid>
                <a:gridCol w="936360"/>
                <a:gridCol w="720720"/>
                <a:gridCol w="1224000"/>
                <a:gridCol w="792360"/>
                <a:gridCol w="12222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res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kilo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9" descr="scan001001"/>
          <p:cNvPicPr/>
          <p:nvPr/>
        </p:nvPicPr>
        <p:blipFill>
          <a:blip r:embed="rId1"/>
          <a:stretch/>
        </p:blipFill>
        <p:spPr>
          <a:xfrm>
            <a:off x="4584600" y="19044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4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mparative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only works if the opportunity costs are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y are the same there would be no point in trade taking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lopes are the s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portunity costs are the s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1" descr="scan002001"/>
          <p:cNvPicPr/>
          <p:nvPr/>
        </p:nvPicPr>
        <p:blipFill>
          <a:blip r:embed="rId1"/>
          <a:stretch/>
        </p:blipFill>
        <p:spPr>
          <a:xfrm>
            <a:off x="539640" y="5308560"/>
            <a:ext cx="8210520" cy="154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scan002001"/>
          <p:cNvPicPr/>
          <p:nvPr/>
        </p:nvPicPr>
        <p:blipFill>
          <a:blip r:embed="rId2"/>
          <a:stretch/>
        </p:blipFill>
        <p:spPr>
          <a:xfrm>
            <a:off x="2411280" y="2781360"/>
            <a:ext cx="367056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can002001"/>
          <p:cNvPicPr/>
          <p:nvPr/>
        </p:nvPicPr>
        <p:blipFill>
          <a:blip r:embed="rId1"/>
          <a:stretch/>
        </p:blipFill>
        <p:spPr>
          <a:xfrm>
            <a:off x="0" y="1814400"/>
            <a:ext cx="98964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hat give a country comparative Advanta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 a large extent this is due to a country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 factor endow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a country has a large amount of arable land it may develop a comparative advantage in agricultural produ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country with beautiful beaches and a favourable climate may develop its comparative advantage in the output of tourist services (climate can be a factor of production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2" descr="Maldives-001"/>
          <p:cNvPicPr/>
          <p:nvPr/>
        </p:nvPicPr>
        <p:blipFill>
          <a:blip r:embed="rId1"/>
          <a:stretch/>
        </p:blipFill>
        <p:spPr>
          <a:xfrm>
            <a:off x="4643280" y="3429000"/>
            <a:ext cx="4381560" cy="26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4" descr="Images &gt; Flowers &gt; Sunflower pictures &gt; sunflowers , 'sunflower field' "/>
          <p:cNvPicPr/>
          <p:nvPr/>
        </p:nvPicPr>
        <p:blipFill>
          <a:blip r:embed="rId2"/>
          <a:stretch/>
        </p:blipFill>
        <p:spPr>
          <a:xfrm>
            <a:off x="4716360" y="189000"/>
            <a:ext cx="4133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662472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imitations of the theory of comparative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theory is based upon a number of assump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se assumptions limit the application of the theory in real lif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rs have perfect knowledge and are aware of where the least expensive goods may be purch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no transport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only 2 economies producing goods – not so much of a problem with the use of computer sim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s do not change and returns to scale are constant (no economies or diseconomies of sca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s being traded are iden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is may be ok with commodities but not goods like consumer durab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tors of production remain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may be the factors of production that move rather than the go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ed countries may invest capital in LDCs to produce go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our may migrate from low-wage to high-wage countrie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limitations"/>
          <p:cNvPicPr/>
          <p:nvPr/>
        </p:nvPicPr>
        <p:blipFill>
          <a:blip r:embed="rId1"/>
          <a:stretch/>
        </p:blipFill>
        <p:spPr>
          <a:xfrm>
            <a:off x="6746760" y="3645000"/>
            <a:ext cx="239724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think"/>
          <p:cNvPicPr/>
          <p:nvPr/>
        </p:nvPicPr>
        <p:blipFill>
          <a:blip r:embed="rId2"/>
          <a:stretch/>
        </p:blipFill>
        <p:spPr>
          <a:xfrm>
            <a:off x="6804000" y="549360"/>
            <a:ext cx="22352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scan001001"/>
          <p:cNvPicPr/>
          <p:nvPr/>
        </p:nvPicPr>
        <p:blipFill>
          <a:blip r:embed="rId1"/>
          <a:stretch/>
        </p:blipFill>
        <p:spPr>
          <a:xfrm rot="21441000">
            <a:off x="1386000" y="60120"/>
            <a:ext cx="3743280" cy="676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21964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your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5435640" y="30034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vc324aHB2m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2" descr=""/>
          <p:cNvPicPr/>
          <p:nvPr/>
        </p:nvPicPr>
        <p:blipFill>
          <a:blip r:embed="rId3"/>
          <a:stretch/>
        </p:blipFill>
        <p:spPr>
          <a:xfrm>
            <a:off x="5705640" y="4149720"/>
            <a:ext cx="13460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597708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Limitations of the theory of 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spite of limitations, comparative advantage is at the core of international theor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t goes a long way to explain patterns of tra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L homework - Using a diagram explain the concept of comparative advantage (10 Mark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ll - Research the WTO ready for class discu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oYouGetItFinal"/>
          <p:cNvPicPr/>
          <p:nvPr/>
        </p:nvPicPr>
        <p:blipFill>
          <a:blip r:embed="rId1"/>
          <a:stretch/>
        </p:blipFill>
        <p:spPr>
          <a:xfrm>
            <a:off x="5940360" y="2276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trade1"/>
          <p:cNvPicPr/>
          <p:nvPr/>
        </p:nvPicPr>
        <p:blipFill>
          <a:blip r:embed="rId1"/>
          <a:stretch/>
        </p:blipFill>
        <p:spPr>
          <a:xfrm>
            <a:off x="5364000" y="2852640"/>
            <a:ext cx="3600720" cy="3073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6337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The gains from  international t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Lower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ers can buy at lower prices than domes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ers can buy less expensive raw materials and semi manufactured go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ces may be lower in some countries because they h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to natural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ces in quality of lab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ces in quality of cap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t levels of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ain cause of lower prices is             comparative advantage (see la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Greater cho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ers have access to domestic and international produ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236000" y="260280"/>
            <a:ext cx="165708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tional tra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he exchange of goods and services betwee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6265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alibri"/>
              </a:rPr>
              <a:t>The gains from international tr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alibri"/>
              </a:rPr>
              <a:t>Differences i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will be resources that a country needs to produce other goods but does not have and has to im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pper, diamonds, o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ingapore imports almost every natural resource but has a high level of exports to fund their impo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audi has oil while Japan has n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sta Rica has the climate to grow bananas whereas the UK canno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USA has a large stock of skilled workers when Sudan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 is comparatively unskilled et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se differences lead to tra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alibri"/>
              </a:rPr>
              <a:t>Economies of sc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ize of the market increa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mand increa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oduction can incre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oduction becomes more effici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ivision of Labour and Specialisation can incre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nagers become more knowledge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is leads to economies of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f countries specialise they acquire experience and expertise (they move down the learning curve – the LRAC curv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 the long run with larger production and larger markets export industries should get more efficient and competitive leading to a reduction in long-ru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236000" y="260280"/>
            <a:ext cx="165708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ngapore has to import almost every natural resource – even wat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audi_oil"/>
          <p:cNvPicPr/>
          <p:nvPr/>
        </p:nvPicPr>
        <p:blipFill>
          <a:blip r:embed="rId1"/>
          <a:stretch/>
        </p:blipFill>
        <p:spPr>
          <a:xfrm>
            <a:off x="6300720" y="2060640"/>
            <a:ext cx="2749680" cy="187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osta-rica-bananas"/>
          <p:cNvPicPr/>
          <p:nvPr/>
        </p:nvPicPr>
        <p:blipFill>
          <a:blip r:embed="rId2"/>
          <a:stretch/>
        </p:blipFill>
        <p:spPr>
          <a:xfrm>
            <a:off x="6711840" y="4005360"/>
            <a:ext cx="21114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3827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The gains from  international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Increased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ces re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impro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novation improves giving more var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804000" y="404640"/>
            <a:ext cx="194472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sk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out what Bahrain exports and imports (include 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ahrainGateway1"/>
          <p:cNvPicPr/>
          <p:nvPr/>
        </p:nvPicPr>
        <p:blipFill>
          <a:blip r:embed="rId1"/>
          <a:stretch/>
        </p:blipFill>
        <p:spPr>
          <a:xfrm>
            <a:off x="4356000" y="2273400"/>
            <a:ext cx="475308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L 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" y="189000"/>
            <a:ext cx="5267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ich goods should a country produce for export and which should it im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answer lies in the concept of 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atch these vide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rdening parable 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youtube.com/watch?v=RpfV0Oerfr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jmfoodie 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youtube.com/user/mjmfoodie#p/u/67/38hvvAzgXZY</a:t>
            </a:r>
            <a:r>
              <a:rPr b="0" lang="en-GB" sz="24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Outsource%2520to%2520India"/>
          <p:cNvPicPr/>
          <p:nvPr/>
        </p:nvPicPr>
        <p:blipFill>
          <a:blip r:embed="rId3"/>
          <a:stretch/>
        </p:blipFill>
        <p:spPr>
          <a:xfrm>
            <a:off x="4826160" y="1268280"/>
            <a:ext cx="43178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</a:rPr>
              <a:t>Comparative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example for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bsolute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table shows the production outcomes where 2 countries are using the same quantities of resources to produce lamb and clo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alf of their resources are being used for lamb and the other for clo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stralia has absolute advantage in producing lamb (it can produce 6 kilos vs 4 kilos with the same resour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ina has absolute advantage in producing cloth (it can produce 3 kilos vs 1 kil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this situation Australia should specialise in lamb and China in clo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1290600"/>
                <a:gridCol w="1190520"/>
                <a:gridCol w="15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la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es of cl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ithout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44"/>
          <p:cNvSpPr/>
          <p:nvPr/>
        </p:nvSpPr>
        <p:spPr>
          <a:xfrm>
            <a:off x="7740720" y="26028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5003640" y="189000"/>
            <a:ext cx="39610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solute advantage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country has absolute advantage it can produce a good using fewer resources than anoth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1290600"/>
                <a:gridCol w="1190520"/>
                <a:gridCol w="1557360"/>
              </a:tblGrid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la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es of cl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ithout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Comparative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ustralia uses all of its resources for lamb it will double its output (assuming constant returns to scale) and make 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gives a total of 12 which is 2 more than before (there is an advantage to them specialis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China uses all of its resources to make cloth it will double its output to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ew total of 6 instead of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ituation, where each country has an absolute advantage in the production of one product is known as reciprocal absolute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1290600"/>
                <a:gridCol w="1190520"/>
                <a:gridCol w="15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la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es of cl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ithout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4" name="Text Box 44"/>
          <p:cNvSpPr/>
          <p:nvPr/>
        </p:nvSpPr>
        <p:spPr>
          <a:xfrm>
            <a:off x="7740720" y="26028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5"/>
          <p:cNvSpPr/>
          <p:nvPr/>
        </p:nvSpPr>
        <p:spPr>
          <a:xfrm>
            <a:off x="5003640" y="189000"/>
            <a:ext cx="39610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solute advantage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country has absolute advantage it can produce a good using fewer resources than anoth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1290600"/>
                <a:gridCol w="1190520"/>
                <a:gridCol w="1557360"/>
              </a:tblGrid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la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es of cl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ithout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3888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Comparative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happens if there is not a situation of reciprocal absolute advant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vid Ricardo (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entury) proved mathematically that trade could still be beneficial to both countries when one country had an absolute advantage in producing all go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looked at the opportunity cost of production to expla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mparative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table shows the production outcomes of France and Poland for wine and che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ce has absolute advantage in producing both go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24360" y="4292640"/>
          <a:ext cx="4895640" cy="1981080"/>
        </p:xfrm>
        <a:graphic>
          <a:graphicData uri="http://schemas.openxmlformats.org/drawingml/2006/table">
            <a:tbl>
              <a:tblPr/>
              <a:tblGrid>
                <a:gridCol w="936720"/>
                <a:gridCol w="718920"/>
                <a:gridCol w="1224000"/>
                <a:gridCol w="792360"/>
                <a:gridCol w="1223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res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kilo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" name="Text Box 65"/>
          <p:cNvSpPr/>
          <p:nvPr/>
        </p:nvSpPr>
        <p:spPr>
          <a:xfrm>
            <a:off x="6804000" y="189000"/>
            <a:ext cx="2340000" cy="3934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ative advantage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country has comparative advantage it can produce a good at 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er opportunity co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n another country; Country A has to give up fewer units of other goods to produce the good in question than count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0" descr="120px-David_Ricardo(1)"/>
          <p:cNvPicPr/>
          <p:nvPr/>
        </p:nvPicPr>
        <p:blipFill>
          <a:blip r:embed="rId1"/>
          <a:stretch/>
        </p:blipFill>
        <p:spPr>
          <a:xfrm>
            <a:off x="3995640" y="333360"/>
            <a:ext cx="2664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6:56:11Z</dcterms:created>
  <dc:creator>user</dc:creator>
  <dc:description/>
  <dc:language>en-US</dc:language>
  <cp:lastModifiedBy>Julia</cp:lastModifiedBy>
  <cp:lastPrinted>2012-09-05T11:13:28Z</cp:lastPrinted>
  <dcterms:modified xsi:type="dcterms:W3CDTF">2015-07-12T09:49:11Z</dcterms:modified>
  <cp:revision>20</cp:revision>
  <dc:subject/>
  <dc:title>Slide 1</dc:title>
</cp:coreProperties>
</file>